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30B07-4250-45FD-9C82-ED394BE8E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FEE6B-A8D1-416E-AB69-E6B17F2F5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301680" y="4343400"/>
            <a:ext cx="6556320" cy="4124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CA820-EB94-4A58-B110-D4AFBA4A6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82900-D66A-4287-8677-A407C963B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EE3AD-FD18-47BD-B134-2EC95FE72D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67DAD-EB41-43FF-B9DD-056C3D0777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A8655-FF07-49F7-9B6D-50E7AEC33D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8F44E-0B18-4129-AF66-57DC5364DB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84A21-71B9-4082-BF57-0753E22BCD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A6D5D-9D78-4450-AF7A-72A31A58E8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C8EB6-F7AB-4456-9ADB-2050DD0C4D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12349-4B01-4DE1-9038-04C6B2B2C4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09251-E2EC-412D-A956-9DBBDC7769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430C9-EFA1-4C25-90E0-C60124892B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13DE2-BA84-43AA-8198-BD62CC1843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9428B-E2CA-49FE-972E-FC9E8675FF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527CD-0DE0-424D-9759-4A48090A66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684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C598E-BE44-44B0-8586-EE95E6404C64}" type="slidenum">
              <a:rPr b="1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081080" y="633240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 and Intel</a:t>
            </a:r>
            <a:r>
              <a:rPr b="0" lang="en-US" sz="7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</a:t>
            </a: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 Education are trademarks or registered trademarks of Intel Corporation or its subsidiaries in the United States and other countries. 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241520"/>
            <a:ext cx="77724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478560" y="309600"/>
            <a:ext cx="2179800" cy="1089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44600" y="1725480"/>
            <a:ext cx="8253360" cy="2541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66960" y="635004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08,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478560" y="309600"/>
            <a:ext cx="2179800" cy="1089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4781160"/>
            <a:ext cx="87631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1" lang="en-US" sz="3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0" y="5474880"/>
            <a:ext cx="876312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ssentials Course Overvie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1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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br>
              <a:rPr sz="18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ssentials Course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5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Intel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Teach Program is a worldwide initiative to provide teachers with the skills to effectively integrate technology into existing curriculum to improve student learning.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nce 1999, the Intel Teach Program has helped over 5 million educators in more than 40 countrie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goal of the Intel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Teach Essentials Course is to help classroom teachers develop student-centered learning through technology integration and project-based approache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92B14-80AF-42CE-B9F4-BDAAA5814EB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3840" y="376200"/>
            <a:ext cx="82296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urse Focu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themes of the Essentials Course include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ing technology effectively in the classroom to promote 21st century skill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dentifying ways students and teachers can use technology to enhance learning through research, communication, collaboration, and productivity strategies and tool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viding hands-on learning and the creation of curricular units and assessments, which address state and national academic and technology standard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acilitating student-centered classrooms that encourage student self-direction and higher-order think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llaborating with colleagues to improve instruction by problem solving and participating in peer reviews of uni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AEA9E-2D00-4FA9-A013-2E1CE172A63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04280" y="1012680"/>
            <a:ext cx="7380360" cy="43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Unit Portfolio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eachers create all the products listed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se items together make up a complete Unit Portfolio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eer reviews are conducted on the products teachers creat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Unit Pla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ligns to standard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cuses through the use of Curriculum-Framing Ques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cludes Assessment Timeline to note ongoing assess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86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vides accommodations to support all learn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8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304920" y="24876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Outcom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85D95-AE1E-460C-868B-E77B49CACA6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rriculum Modul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206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48608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1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eaching with Proje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48608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cus: Project-based learning and unit desig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48608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48608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2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lanning My Un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48608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cus: Curriculum-Framing Questions and ongoing student-centered assess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48608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48608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3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aking Connect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48608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cus: The Internet to support teaching and learn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48608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48608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4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Creating Samples of Learn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148608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cus: Project outcomes from a studen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erspectiv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C48EF-273A-4EDB-BD1B-F5443F7F8EC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rriculum Modul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08240"/>
            <a:ext cx="82296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5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Assessing Student Proje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cus: Formative and summative assess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6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lanning for Student Succes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cus: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Student support and self-direc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7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acilitating with Technolog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cus: Teacher as facilitato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odule 8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howcasing Unit Portfoli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cus: Sharing Learning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EC055-E836-47E9-AF20-9C21A42564F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erequisite Skill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articipants should possess intermediate-level computer skill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546120" y="2527200"/>
            <a:ext cx="8013600" cy="26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bility t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rmat and edit tex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py, cut, and paste text and graphi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ave docu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 e-mai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avigate and perform a search on the Intern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8600" indent="-228600"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 a word processing appl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1FBBE-D706-4BB3-B1E7-D76A0CF6D0F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xpectation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ttend all  hours of hands-on in-class trainin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e on tim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articipate in all activities and discussio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lete some Planning Ahead and preparation activities between session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B6EC6-80D1-4B89-BDF8-133EDA370D4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217600" y="1908000"/>
            <a:ext cx="4953240" cy="2475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081080" y="633240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 and Intel</a:t>
            </a:r>
            <a:r>
              <a:rPr b="0" lang="en-US" sz="7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</a:t>
            </a: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 Education are trademarks or registered trademarks of Intel Corporation or its subsidiaries in the United States and other countries. *Other names and brands may be claimed as the property of others.</a:t>
            </a: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E05FF-2F26-4472-AAA0-7F22FF89392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05:19:46Z</dcterms:created>
  <dc:creator>Kristen Merrill</dc:creator>
  <dc:description/>
  <dc:language>en-US</dc:language>
  <cp:lastModifiedBy>jkurczak</cp:lastModifiedBy>
  <dcterms:modified xsi:type="dcterms:W3CDTF">2010-02-16T16:58:35Z</dcterms:modified>
  <cp:revision>54</cp:revision>
  <dc:subject/>
  <dc:title>Presentation Title Goes Here</dc:title>
</cp:coreProperties>
</file>